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jeopardy1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1DEB-A5CB-4BA9-9EEF-1D88C6727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using in history, compare the live/events of xxx with the live/events of another famous person/ev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you explain the events of x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might add/delete information.  Maybe add a chart/diagram/more info. On xx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20D7-6554-47EA-9370-D6D07823B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6BB9-FDF8-4C95-B406-298797E9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66B1-31CA-45A8-B373-31568889F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D12B-CD88-4A82-B47A-80270FA01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C78A-F2EE-4A37-9BEB-D47703C8E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159F-91C8-427F-A982-4BBF9585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A965-A279-4B4B-82D4-EF3279ED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F415-1D31-42B8-8373-66EC847F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BB9F-6B60-4825-A0A5-41B3CBBC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7165-2621-4D44-9C06-560A87A6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2D81-1BD9-4308-8F52-68AB7330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D5F5-ABEA-4ACD-B610-2FFE743E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FBAB-740E-4126-9F41-F0F082A3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E930-DE1C-4C60-81FF-DFC336B8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7910-7B95-480A-A243-C73B45E1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BAA4-5C0A-4B1A-801D-D228E646D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1D11-2E2E-4540-83AD-61D294506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B530-9844-43C6-B617-7DACBBC6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A6EF-7DA3-4D2F-B30F-C25F0C5A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A5A4-5F75-449D-A937-39677E5A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8C6D-684E-44B2-978E-C67B3A37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5AC0-44F7-40BF-B3F1-591B2607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BD59-4263-47BE-B8C2-605B0E16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0BD3-2313-40E9-BB93-B8B0AE84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9152-9BA4-4821-A646-786FE427406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250C-4D89-4136-BDA1-E1B228B0691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file:///tmp/home/.config/libreoffice/4/user/gallery/COSMIC.WAV" TargetMode="External"/><Relationship Id="rId3" Type="http://schemas.openxmlformats.org/officeDocument/2006/relationships/slide" Target="slide5.xml"/><Relationship Id="rId4" Type="http://schemas.openxmlformats.org/officeDocument/2006/relationships/slide" Target="slide4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9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6.xml"/><Relationship Id="rId11" Type="http://schemas.openxmlformats.org/officeDocument/2006/relationships/slide" Target="slide7.xml"/><Relationship Id="rId12" Type="http://schemas.openxmlformats.org/officeDocument/2006/relationships/slide" Target="slide8.xml"/><Relationship Id="rId13" Type="http://schemas.openxmlformats.org/officeDocument/2006/relationships/slide" Target="slide9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6.xml"/><Relationship Id="rId20" Type="http://schemas.openxmlformats.org/officeDocument/2006/relationships/slide" Target="slide16.xml"/><Relationship Id="rId21" Type="http://schemas.openxmlformats.org/officeDocument/2006/relationships/slide" Target="slide17.xml"/><Relationship Id="rId22" Type="http://schemas.openxmlformats.org/officeDocument/2006/relationships/slide" Target="slide19.xml"/><Relationship Id="rId23" Type="http://schemas.openxmlformats.org/officeDocument/2006/relationships/slide" Target="slide20.xml"/><Relationship Id="rId24" Type="http://schemas.openxmlformats.org/officeDocument/2006/relationships/slide" Target="slide21.xml"/><Relationship Id="rId25" Type="http://schemas.openxmlformats.org/officeDocument/2006/relationships/slide" Target="slide22.xml"/><Relationship Id="rId26" Type="http://schemas.openxmlformats.org/officeDocument/2006/relationships/slide" Target="slide23.xml"/><Relationship Id="rId27" Type="http://schemas.openxmlformats.org/officeDocument/2006/relationships/slide" Target="slide24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30.xml"/><Relationship Id="rId33" Type="http://schemas.openxmlformats.org/officeDocument/2006/relationships/slide" Target="slide31.xml"/><Relationship Id="rId3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jeopardy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4800" y="1734120"/>
            <a:ext cx="1393200" cy="492480"/>
          </a:xfrm>
          <a:custGeom>
            <a:avLst/>
            <a:gdLst>
              <a:gd name="textAreaLeft" fmla="*/ 31680 w 1393200"/>
              <a:gd name="textAreaRight" fmla="*/ 1361520 w 1393200"/>
              <a:gd name="textAreaTop" fmla="*/ 31680 h 492480"/>
              <a:gd name="textAreaBottom" fmla="*/ 460800 h 492480"/>
            </a:gdLst>
            <a:ahLst/>
            <a:rect l="textAreaLeft" t="textAreaTop" r="textAreaRight" b="textAreaBottom"/>
            <a:pathLst>
              <a:path w="61076" h="21600">
                <a:moveTo>
                  <a:pt x="0" y="0"/>
                </a:moveTo>
                <a:lnTo>
                  <a:pt x="61076" y="0"/>
                </a:lnTo>
                <a:lnTo>
                  <a:pt x="61076" y="21600"/>
                </a:lnTo>
                <a:lnTo>
                  <a:pt x="0" y="21600"/>
                </a:lnTo>
                <a:close/>
              </a:path>
              <a:path fill="lightenLess" w="61076" h="21600">
                <a:moveTo>
                  <a:pt x="0" y="0"/>
                </a:moveTo>
                <a:lnTo>
                  <a:pt x="61076" y="0"/>
                </a:lnTo>
                <a:lnTo>
                  <a:pt x="59676" y="1400"/>
                </a:lnTo>
                <a:lnTo>
                  <a:pt x="1400" y="1400"/>
                </a:lnTo>
                <a:close/>
              </a:path>
              <a:path fill="darken" w="61076" h="21600">
                <a:moveTo>
                  <a:pt x="61076" y="0"/>
                </a:moveTo>
                <a:lnTo>
                  <a:pt x="61076" y="21600"/>
                </a:lnTo>
                <a:lnTo>
                  <a:pt x="59676" y="20200"/>
                </a:lnTo>
                <a:lnTo>
                  <a:pt x="59676" y="1400"/>
                </a:lnTo>
                <a:close/>
              </a:path>
              <a:path fill="darkenLess" w="61076" h="21600">
                <a:moveTo>
                  <a:pt x="61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676" y="20200"/>
                </a:lnTo>
                <a:close/>
              </a:path>
              <a:path fill="lighten" w="61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Comic Sans MS"/>
              </a:rPr>
              <a:t>Knowing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152280" y="27432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7680" y="388440"/>
            <a:ext cx="762804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Comic Sans MS"/>
              </a:rPr>
              <a:t>Nonfiction Comprehension Challeng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525780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5181480"/>
            <a:ext cx="1218960" cy="60984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3162" h="21600">
                <a:moveTo>
                  <a:pt x="0" y="0"/>
                </a:moveTo>
                <a:lnTo>
                  <a:pt x="43162" y="0"/>
                </a:lnTo>
                <a:lnTo>
                  <a:pt x="43162" y="21600"/>
                </a:lnTo>
                <a:lnTo>
                  <a:pt x="0" y="21600"/>
                </a:lnTo>
                <a:close/>
              </a:path>
              <a:path fill="lightenLess" w="43162" h="21600">
                <a:moveTo>
                  <a:pt x="0" y="0"/>
                </a:moveTo>
                <a:lnTo>
                  <a:pt x="43162" y="0"/>
                </a:lnTo>
                <a:lnTo>
                  <a:pt x="41762" y="1400"/>
                </a:lnTo>
                <a:lnTo>
                  <a:pt x="1400" y="1400"/>
                </a:lnTo>
                <a:close/>
              </a:path>
              <a:path fill="darken" w="43162" h="21600">
                <a:moveTo>
                  <a:pt x="43162" y="0"/>
                </a:moveTo>
                <a:lnTo>
                  <a:pt x="43162" y="21600"/>
                </a:lnTo>
                <a:lnTo>
                  <a:pt x="41762" y="20200"/>
                </a:lnTo>
                <a:lnTo>
                  <a:pt x="41762" y="1400"/>
                </a:lnTo>
                <a:close/>
              </a:path>
              <a:path fill="darkenLess" w="43162" h="21600">
                <a:moveTo>
                  <a:pt x="43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2" y="20200"/>
                </a:lnTo>
                <a:close/>
              </a:path>
              <a:path fill="lighten" w="43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41972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601992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20560" y="1734120"/>
            <a:ext cx="1722240" cy="492480"/>
          </a:xfrm>
          <a:custGeom>
            <a:avLst/>
            <a:gdLst>
              <a:gd name="textAreaLeft" fmla="*/ 31680 w 1722240"/>
              <a:gd name="textAreaRight" fmla="*/ 1690560 w 1722240"/>
              <a:gd name="textAreaTop" fmla="*/ 31680 h 492480"/>
              <a:gd name="textAreaBottom" fmla="*/ 460800 h 492480"/>
            </a:gdLst>
            <a:ahLst/>
            <a:rect l="textAreaLeft" t="textAreaTop" r="textAreaRight" b="textAreaBottom"/>
            <a:pathLst>
              <a:path w="75497" h="21600">
                <a:moveTo>
                  <a:pt x="0" y="0"/>
                </a:moveTo>
                <a:lnTo>
                  <a:pt x="75497" y="0"/>
                </a:lnTo>
                <a:lnTo>
                  <a:pt x="75497" y="21600"/>
                </a:lnTo>
                <a:lnTo>
                  <a:pt x="0" y="21600"/>
                </a:lnTo>
                <a:close/>
              </a:path>
              <a:path fill="lightenLess" w="75497" h="21600">
                <a:moveTo>
                  <a:pt x="0" y="0"/>
                </a:moveTo>
                <a:lnTo>
                  <a:pt x="75497" y="0"/>
                </a:lnTo>
                <a:lnTo>
                  <a:pt x="74098" y="1400"/>
                </a:lnTo>
                <a:lnTo>
                  <a:pt x="1400" y="1400"/>
                </a:lnTo>
                <a:close/>
              </a:path>
              <a:path fill="darken" w="75497" h="21600">
                <a:moveTo>
                  <a:pt x="75497" y="0"/>
                </a:moveTo>
                <a:lnTo>
                  <a:pt x="75497" y="21600"/>
                </a:lnTo>
                <a:lnTo>
                  <a:pt x="74098" y="20200"/>
                </a:lnTo>
                <a:lnTo>
                  <a:pt x="74098" y="1400"/>
                </a:lnTo>
                <a:close/>
              </a:path>
              <a:path fill="darkenLess" w="75497" h="21600">
                <a:moveTo>
                  <a:pt x="75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98" y="20200"/>
                </a:lnTo>
                <a:close/>
              </a:path>
              <a:path fill="lighten" w="75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Comic Sans MS"/>
              </a:rPr>
              <a:t>Generating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5880" y="43434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96080" y="27432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24640" y="1608840"/>
            <a:ext cx="1762200" cy="808200"/>
          </a:xfrm>
          <a:custGeom>
            <a:avLst/>
            <a:gdLst>
              <a:gd name="textAreaLeft" fmla="*/ 52200 w 1762200"/>
              <a:gd name="textAreaRight" fmla="*/ 1710000 w 1762200"/>
              <a:gd name="textAreaTop" fmla="*/ 52200 h 808200"/>
              <a:gd name="textAreaBottom" fmla="*/ 756000 h 808200"/>
            </a:gdLst>
            <a:ahLst/>
            <a:rect l="textAreaLeft" t="textAreaTop" r="textAreaRight" b="textAreaBottom"/>
            <a:pathLst>
              <a:path w="47085" h="21600">
                <a:moveTo>
                  <a:pt x="0" y="0"/>
                </a:moveTo>
                <a:lnTo>
                  <a:pt x="47085" y="0"/>
                </a:lnTo>
                <a:lnTo>
                  <a:pt x="47085" y="21600"/>
                </a:lnTo>
                <a:lnTo>
                  <a:pt x="0" y="21600"/>
                </a:lnTo>
                <a:close/>
              </a:path>
              <a:path fill="lightenLess" w="47085" h="21600">
                <a:moveTo>
                  <a:pt x="0" y="0"/>
                </a:moveTo>
                <a:lnTo>
                  <a:pt x="47085" y="0"/>
                </a:lnTo>
                <a:lnTo>
                  <a:pt x="45685" y="1400"/>
                </a:lnTo>
                <a:lnTo>
                  <a:pt x="1400" y="1400"/>
                </a:lnTo>
                <a:close/>
              </a:path>
              <a:path fill="darken" w="47085" h="21600">
                <a:moveTo>
                  <a:pt x="47085" y="0"/>
                </a:moveTo>
                <a:lnTo>
                  <a:pt x="47085" y="21600"/>
                </a:lnTo>
                <a:lnTo>
                  <a:pt x="45685" y="20200"/>
                </a:lnTo>
                <a:lnTo>
                  <a:pt x="45685" y="1400"/>
                </a:lnTo>
                <a:close/>
              </a:path>
              <a:path fill="darkenLess" w="47085" h="21600">
                <a:moveTo>
                  <a:pt x="470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685" y="20200"/>
                </a:lnTo>
                <a:close/>
              </a:path>
              <a:path fill="lighten" w="470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mic Sans MS"/>
              </a:rPr>
              <a:t>Integrating/ Evaluatin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5880" y="5181480"/>
            <a:ext cx="1219320" cy="60984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5880" y="35053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5880" y="27432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274320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3581280"/>
            <a:ext cx="1218960" cy="60984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3162" h="21600">
                <a:moveTo>
                  <a:pt x="0" y="0"/>
                </a:moveTo>
                <a:lnTo>
                  <a:pt x="43162" y="0"/>
                </a:lnTo>
                <a:lnTo>
                  <a:pt x="43162" y="21600"/>
                </a:lnTo>
                <a:lnTo>
                  <a:pt x="0" y="21600"/>
                </a:lnTo>
                <a:close/>
              </a:path>
              <a:path fill="lightenLess" w="43162" h="21600">
                <a:moveTo>
                  <a:pt x="0" y="0"/>
                </a:moveTo>
                <a:lnTo>
                  <a:pt x="43162" y="0"/>
                </a:lnTo>
                <a:lnTo>
                  <a:pt x="41762" y="1400"/>
                </a:lnTo>
                <a:lnTo>
                  <a:pt x="1400" y="1400"/>
                </a:lnTo>
                <a:close/>
              </a:path>
              <a:path fill="darken" w="43162" h="21600">
                <a:moveTo>
                  <a:pt x="43162" y="0"/>
                </a:moveTo>
                <a:lnTo>
                  <a:pt x="43162" y="21600"/>
                </a:lnTo>
                <a:lnTo>
                  <a:pt x="41762" y="20200"/>
                </a:lnTo>
                <a:lnTo>
                  <a:pt x="41762" y="1400"/>
                </a:lnTo>
                <a:close/>
              </a:path>
              <a:path fill="darkenLess" w="43162" h="21600">
                <a:moveTo>
                  <a:pt x="43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2" y="20200"/>
                </a:lnTo>
                <a:close/>
              </a:path>
              <a:path fill="lighten" w="43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39960" y="1734120"/>
            <a:ext cx="1512000" cy="492480"/>
          </a:xfrm>
          <a:custGeom>
            <a:avLst/>
            <a:gdLst>
              <a:gd name="textAreaLeft" fmla="*/ 31680 w 1512000"/>
              <a:gd name="textAreaRight" fmla="*/ 1480320 w 1512000"/>
              <a:gd name="textAreaTop" fmla="*/ 31680 h 492480"/>
              <a:gd name="textAreaBottom" fmla="*/ 460800 h 492480"/>
            </a:gdLst>
            <a:ahLst/>
            <a:rect l="textAreaLeft" t="textAreaTop" r="textAreaRight" b="textAreaBottom"/>
            <a:pathLst>
              <a:path w="66283" h="21600">
                <a:moveTo>
                  <a:pt x="0" y="0"/>
                </a:moveTo>
                <a:lnTo>
                  <a:pt x="66283" y="0"/>
                </a:lnTo>
                <a:lnTo>
                  <a:pt x="66283" y="21600"/>
                </a:lnTo>
                <a:lnTo>
                  <a:pt x="0" y="21600"/>
                </a:lnTo>
                <a:close/>
              </a:path>
              <a:path fill="lightenLess" w="66283" h="21600">
                <a:moveTo>
                  <a:pt x="0" y="0"/>
                </a:moveTo>
                <a:lnTo>
                  <a:pt x="66283" y="0"/>
                </a:lnTo>
                <a:lnTo>
                  <a:pt x="64883" y="1400"/>
                </a:lnTo>
                <a:lnTo>
                  <a:pt x="1400" y="1400"/>
                </a:lnTo>
                <a:close/>
              </a:path>
              <a:path fill="darken" w="66283" h="21600">
                <a:moveTo>
                  <a:pt x="66283" y="0"/>
                </a:moveTo>
                <a:lnTo>
                  <a:pt x="66283" y="21600"/>
                </a:lnTo>
                <a:lnTo>
                  <a:pt x="64883" y="20200"/>
                </a:lnTo>
                <a:lnTo>
                  <a:pt x="64883" y="1400"/>
                </a:lnTo>
                <a:close/>
              </a:path>
              <a:path fill="darkenLess" w="66283" h="21600">
                <a:moveTo>
                  <a:pt x="66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883" y="20200"/>
                </a:lnTo>
                <a:close/>
              </a:path>
              <a:path fill="lighten" w="66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Comic Sans MS"/>
              </a:rPr>
              <a:t>Analyzing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74320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48320" y="350532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48320" y="434340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601992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96080" y="5181480"/>
            <a:ext cx="1219320" cy="60984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96080" y="43434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96080" y="35053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00200" y="3581280"/>
            <a:ext cx="1219320" cy="60984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>
            <a:hlinkClick r:id="rId2"/>
          </p:cNvPr>
          <p:cNvSpPr/>
          <p:nvPr/>
        </p:nvSpPr>
        <p:spPr>
          <a:xfrm>
            <a:off x="1600200" y="52578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>
            <a:hlinkClick r:id="rId3" action="ppaction://hlinksldjump"/>
          </p:cNvPr>
          <p:cNvSpPr/>
          <p:nvPr/>
        </p:nvSpPr>
        <p:spPr>
          <a:xfrm>
            <a:off x="152280" y="52578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35160" y="1734120"/>
            <a:ext cx="1396080" cy="492480"/>
          </a:xfrm>
          <a:custGeom>
            <a:avLst/>
            <a:gdLst>
              <a:gd name="textAreaLeft" fmla="*/ 31680 w 1396080"/>
              <a:gd name="textAreaRight" fmla="*/ 1364400 w 1396080"/>
              <a:gd name="textAreaTop" fmla="*/ 31680 h 492480"/>
              <a:gd name="textAreaBottom" fmla="*/ 460800 h 492480"/>
            </a:gdLst>
            <a:ahLst/>
            <a:rect l="textAreaLeft" t="textAreaTop" r="textAreaRight" b="textAreaBottom"/>
            <a:pathLst>
              <a:path w="61203" h="21600">
                <a:moveTo>
                  <a:pt x="0" y="0"/>
                </a:moveTo>
                <a:lnTo>
                  <a:pt x="61203" y="0"/>
                </a:lnTo>
                <a:lnTo>
                  <a:pt x="61203" y="21600"/>
                </a:lnTo>
                <a:lnTo>
                  <a:pt x="0" y="21600"/>
                </a:lnTo>
                <a:close/>
              </a:path>
              <a:path fill="lightenLess" w="61203" h="21600">
                <a:moveTo>
                  <a:pt x="0" y="0"/>
                </a:moveTo>
                <a:lnTo>
                  <a:pt x="61203" y="0"/>
                </a:lnTo>
                <a:lnTo>
                  <a:pt x="59803" y="1400"/>
                </a:lnTo>
                <a:lnTo>
                  <a:pt x="1400" y="1400"/>
                </a:lnTo>
                <a:close/>
              </a:path>
              <a:path fill="darken" w="61203" h="21600">
                <a:moveTo>
                  <a:pt x="61203" y="0"/>
                </a:moveTo>
                <a:lnTo>
                  <a:pt x="61203" y="21600"/>
                </a:lnTo>
                <a:lnTo>
                  <a:pt x="59803" y="20200"/>
                </a:lnTo>
                <a:lnTo>
                  <a:pt x="59803" y="1400"/>
                </a:lnTo>
                <a:close/>
              </a:path>
              <a:path fill="darkenLess" w="61203" h="21600">
                <a:moveTo>
                  <a:pt x="61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03" y="20200"/>
                </a:lnTo>
                <a:close/>
              </a:path>
              <a:path fill="lighten" w="61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Comic Sans MS"/>
              </a:rPr>
              <a:t>Applying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>
            <a:hlinkClick r:id="rId4" action="ppaction://hlinksldjump"/>
          </p:cNvPr>
          <p:cNvSpPr/>
          <p:nvPr/>
        </p:nvSpPr>
        <p:spPr>
          <a:xfrm>
            <a:off x="152280" y="44197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61880" y="1734120"/>
            <a:ext cx="1698120" cy="492480"/>
          </a:xfrm>
          <a:custGeom>
            <a:avLst/>
            <a:gdLst>
              <a:gd name="textAreaLeft" fmla="*/ 31680 w 1698120"/>
              <a:gd name="textAreaRight" fmla="*/ 1666440 w 1698120"/>
              <a:gd name="textAreaTop" fmla="*/ 31680 h 492480"/>
              <a:gd name="textAreaBottom" fmla="*/ 460800 h 492480"/>
            </a:gdLst>
            <a:ahLst/>
            <a:rect l="textAreaLeft" t="textAreaTop" r="textAreaRight" b="textAreaBottom"/>
            <a:pathLst>
              <a:path w="74440" h="21600">
                <a:moveTo>
                  <a:pt x="0" y="0"/>
                </a:moveTo>
                <a:lnTo>
                  <a:pt x="74440" y="0"/>
                </a:lnTo>
                <a:lnTo>
                  <a:pt x="74440" y="21600"/>
                </a:lnTo>
                <a:lnTo>
                  <a:pt x="0" y="21600"/>
                </a:lnTo>
                <a:close/>
              </a:path>
              <a:path fill="lightenLess" w="74440" h="21600">
                <a:moveTo>
                  <a:pt x="0" y="0"/>
                </a:moveTo>
                <a:lnTo>
                  <a:pt x="74440" y="0"/>
                </a:lnTo>
                <a:lnTo>
                  <a:pt x="73040" y="1400"/>
                </a:lnTo>
                <a:lnTo>
                  <a:pt x="1400" y="1400"/>
                </a:lnTo>
                <a:close/>
              </a:path>
              <a:path fill="darken" w="74440" h="21600">
                <a:moveTo>
                  <a:pt x="74440" y="0"/>
                </a:moveTo>
                <a:lnTo>
                  <a:pt x="74440" y="21600"/>
                </a:lnTo>
                <a:lnTo>
                  <a:pt x="73040" y="20200"/>
                </a:lnTo>
                <a:lnTo>
                  <a:pt x="73040" y="1400"/>
                </a:lnTo>
                <a:close/>
              </a:path>
              <a:path fill="darkenLess" w="74440" h="21600">
                <a:moveTo>
                  <a:pt x="744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040" y="20200"/>
                </a:lnTo>
                <a:close/>
              </a:path>
              <a:path fill="lighten" w="744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Comic Sans MS"/>
              </a:rPr>
              <a:t>Organizing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27432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4197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280" y="3581280"/>
            <a:ext cx="1219320" cy="60984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2819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5" action="ppaction://hlinksldjump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3657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6" action="ppaction://hlinksldjump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7" action="ppaction://hlinksldjump"/>
              </a:rPr>
              <a:t>4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8" action="ppaction://hlinksldjump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9" action="ppaction://hlinksldjump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10" action="ppaction://hlinksldjump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11" action="ppaction://hlinksldjump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52480" y="3657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12" action="ppaction://hlinksldjump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4495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13" action="ppaction://hlinksldjump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6095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14" action="ppaction://hlinksldjump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15" action="ppaction://hlinksldjump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76720" y="36576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16" action="ppaction://hlinksldjump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4495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17" action="ppaction://hlinksldjump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0040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18" action="ppaction://hlinksldjump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>
            <a:hlinkClick r:id="rId19" action="ppaction://hlinksldjump"/>
          </p:cNvPr>
          <p:cNvSpPr/>
          <p:nvPr/>
        </p:nvSpPr>
        <p:spPr>
          <a:xfrm>
            <a:off x="32767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20" action="ppaction://hlinksldjump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00600" y="2819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21" action="ppaction://hlinksldjump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00600" y="358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06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22" action="ppaction://hlinksldjump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23" action="ppaction://hlinksldjump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6095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24" action="ppaction://hlinksldjump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25" action="ppaction://hlinksldjump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26" action="ppaction://hlinksldjump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448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27" action="ppaction://hlinksldjump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5257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0800" y="6095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28" action="ppaction://hlinksldjump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0100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29" action="ppaction://hlinksldjump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077320" y="3581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30" action="ppaction://hlinksldjump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848720" y="4419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31" action="ppaction://hlinksldjump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0010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32" action="ppaction://hlinksldjump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848720" y="6095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33" action="ppaction://hlinksldjump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9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1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4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4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Organizing 4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eaeaea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Compare and contrast x and y.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Organizing 5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Sketch a graphic organizer that would organize the information in this section.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Applying 1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What do you know that helps you understand this selection?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Applying 2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What is the </a:t>
            </a:r>
            <a:r>
              <a:rPr b="0" i="1" lang="en-US" sz="5000" spc="-1" strike="noStrike">
                <a:solidFill>
                  <a:srgbClr val="eaeaea"/>
                </a:solidFill>
                <a:latin typeface="Comic Sans MS"/>
              </a:rPr>
              <a:t>best</a:t>
            </a: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 reason to read this selection?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2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Applying 3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What did the author do to make this a highly informative selection? Or what could the author have done to make it more informative?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Applying 4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Why is the text feature on page x significant?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Applying 5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Why is this information important in your own life?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Analyzing 1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What part of this selection surprises you?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4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Analyzing 2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What would be another good title for this selection?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Analyzing 3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Explain the main idea of this selection.  How do you know this is the main idea?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0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What is this selection mainly about?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Knowing 1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Analyzing 4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Which word best describes xxx?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3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Analyzing 5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Outline the important information about xxx.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6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Generating 1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Tell me additional information about xxx?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9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Generating 2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Why did the author include photos/images in this selection?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Generating 3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What is your opinion about xxx?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5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Generating 4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What does the author </a:t>
            </a:r>
            <a:r>
              <a:rPr b="0" i="1" lang="en-US" sz="5000" spc="-1" strike="noStrike">
                <a:solidFill>
                  <a:srgbClr val="eaeaea"/>
                </a:solidFill>
                <a:latin typeface="Comic Sans MS"/>
              </a:rPr>
              <a:t>most likely</a:t>
            </a: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 mean by _______?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8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Generating 5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Predict what would be true if xxx happened or did not happen?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plit dir="in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Integrating/Evaluating 1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3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Summarize the information in this selection.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plit dir="out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Integrating/Evaluating 2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6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What is the most important information in this selection?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Integrating/Evaluating 3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9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What information did you learn that you can apply to your life?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Knowing 2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buClr>
                <a:srgbClr val="eaeaea"/>
              </a:buClr>
              <a:buSzPct val="7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What is the meaning of “xxx”?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Integrating/Evaluating 4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2" name="">
            <a:hlinkClick r:id="" action="ppaction://hlinkshowjump?jump=firstslide"/>
          </p:cNvPr>
          <p:cNvSpPr/>
          <p:nvPr/>
        </p:nvSpPr>
        <p:spPr>
          <a:xfrm>
            <a:off x="8305920" y="62485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98840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If you were the author of this selection, what would you change and why?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Integrating/Evaluating 5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5" name="">
            <a:hlinkClick r:id="" action="ppaction://hlinkshowjump?jump=firstslide"/>
          </p:cNvPr>
          <p:cNvSpPr/>
          <p:nvPr/>
        </p:nvSpPr>
        <p:spPr>
          <a:xfrm>
            <a:off x="8305920" y="62485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15600" y="1599840"/>
            <a:ext cx="798660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Evaluate the quality of this selection.  What made it a good selection?  What could have made it better?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Knowing 3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eaeaea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Identify the first subheading.  What does the author want you to learn?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Knowing 4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eaeaea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Look at the image on page x.  Why did the author choose this image?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Knowing 5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eaeaea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What is the author’s purpose in writing about this topic?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Organizing 1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eaeaea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Sequence the information found in section x.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Organizing 2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66680" y="1447920"/>
            <a:ext cx="5639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buClr>
                <a:srgbClr val="eaeae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Comic Sans MS"/>
              </a:rPr>
              <a:t>Read the special text feature on page x.  What information does this feature give you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Double Jeopardy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3794"/>
                </a:moveTo>
                <a:lnTo>
                  <a:pt x="20203" y="10800"/>
                </a:lnTo>
                <a:lnTo>
                  <a:pt x="6190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21:05:08Z</dcterms:created>
  <dc:creator>Kelli Harrell</dc:creator>
  <dc:description/>
  <dc:language>en-US</dc:language>
  <cp:lastModifiedBy>Randolph County Schools</cp:lastModifiedBy>
  <dcterms:modified xsi:type="dcterms:W3CDTF">2006-06-15T13:35:02Z</dcterms:modified>
  <cp:revision>84</cp:revision>
  <dc:subject/>
  <dc:title>Nonfiction Comprehension Challenge</dc:title>
</cp:coreProperties>
</file>